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D09-EE48-40BB-87F0-E80FE260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EFF-4FD8-4D28-918D-D3FBCAED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C95-8815-4943-B1A1-C05B3833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085-C76B-4974-91A7-580FC0C2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D7AB-3874-4643-AD17-7ECE4E54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6160-14D2-4A01-9F4E-43F5BDB6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FD17-BF17-4C79-AE3B-5E251DF2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736E-B958-48D1-8E8B-82718320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5B13-0481-41E0-A857-37976402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8F30-A134-4B4B-913F-2C90797A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F42A-7A95-4373-87C5-361E7AA9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3AD-691C-496A-8E42-8DB7E5BF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55DF-B344-4562-92AE-67AF4B0D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5CBD-B2B6-4115-8CE8-6D054012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8E7F-1415-4D17-A895-174469A6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FF30-D661-4B4F-A469-D787193E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A95C-3304-49C0-9CC2-14329966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B956F-B8F2-4A27-AC7E-A1945660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1614-8401-4D38-AF24-D2DCA363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0D0BE-AE9E-4F4B-A224-B10450AF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D841-AD32-4BBC-B587-5C0C10F5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D4BF8-E14F-461A-AF4D-DF814FF7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69C-2BCF-46E9-87D8-470390E0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35986-3237-4E5D-9407-B61AB027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4416B-DD0B-4051-8F2E-F072791F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C596-6020-40B4-AD59-84F236D7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DA5DD-047B-4B11-B903-ED696287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89DE0-022C-4276-A0B7-8B9D5EC2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8E7B-2860-4A5E-800B-E545FC01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DF852-83E2-4BBB-874C-62740921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19F6-3484-45A9-B07C-0BECA789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FE9-119C-471B-9810-C66C2018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E1F-6749-4B2B-9164-AEAD8750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CA3-853C-4B43-B91E-F8A9C6A4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B10-E8F1-4386-A63E-93CFDF10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7EB-1F0E-4FA3-9BDB-9373CC74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555C-65F9-4F83-92B4-3FCBA9E20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648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F81D-EB21-498E-BF6B-F348FFD55E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2960-69BA-4683-A487-3A7E945E78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1170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9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290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9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1370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9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1490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9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1530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1570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9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1610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9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1650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2e75b6"/>
                </a:solidFill>
                <a:latin typeface="Calibri"/>
              </a:rPr>
              <a:t>Predhodne pogojenosti </a:t>
            </a:r>
            <a:br>
              <a:rPr sz="2400"/>
            </a:br>
            <a:r>
              <a:rPr b="1" lang="sl-SI" sz="2800" spc="-1" strike="noStrike">
                <a:solidFill>
                  <a:srgbClr val="2e75b6"/>
                </a:solidFill>
                <a:latin typeface="Calibri"/>
              </a:rPr>
              <a:t>predstavitev stanja izpolnjevanja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oljeZBesedilom 1"/>
          <p:cNvSpPr/>
          <p:nvPr/>
        </p:nvSpPr>
        <p:spPr>
          <a:xfrm>
            <a:off x="736560" y="1836720"/>
            <a:ext cx="706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kupno je bilo </a:t>
            </a:r>
            <a:r>
              <a:rPr b="0" lang="sl-SI" sz="1800" spc="-1" strike="noStrike">
                <a:solidFill>
                  <a:srgbClr val="ff0000"/>
                </a:solidFill>
                <a:latin typeface="Calibri"/>
              </a:rPr>
              <a:t>18 akcijskih načrtov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 izpolnitev predhodnih pogojenosti. Skrajni rok za njihovo izpolnitev je bil </a:t>
            </a:r>
            <a:r>
              <a:rPr b="0" lang="sl-SI" sz="1800" spc="-1" strike="noStrike">
                <a:solidFill>
                  <a:srgbClr val="ff0000"/>
                </a:solidFill>
                <a:latin typeface="Calibri"/>
              </a:rPr>
              <a:t>31. 12. 2016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 letu 2015 jih je bilo realiziranih 5. V letu 2016 pa preostalih 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čakamo na uradno potrditev E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1" name=""/>
          <p:cNvGraphicFramePr/>
          <p:nvPr/>
        </p:nvGraphicFramePr>
        <p:xfrm>
          <a:off x="779400" y="3376440"/>
          <a:ext cx="6967440" cy="1484640"/>
        </p:xfrm>
        <a:graphic>
          <a:graphicData uri="http://schemas.openxmlformats.org/drawingml/2006/table">
            <a:tbl>
              <a:tblPr/>
              <a:tblGrid>
                <a:gridCol w="3446640"/>
                <a:gridCol w="1735200"/>
                <a:gridCol w="17856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1692" name="PoljeZBesedilom 3"/>
          <p:cNvSpPr/>
          <p:nvPr/>
        </p:nvSpPr>
        <p:spPr>
          <a:xfrm>
            <a:off x="804960" y="722160"/>
            <a:ext cx="69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e75b6"/>
                </a:solidFill>
                <a:latin typeface="Calibri"/>
              </a:rPr>
              <a:t>Predhodne pogojenosti - stanje izpolnjevan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3" name="Picture 5" descr=""/>
          <p:cNvPicPr/>
          <p:nvPr/>
        </p:nvPicPr>
        <p:blipFill>
          <a:blip r:embed="rId1"/>
          <a:stretch/>
        </p:blipFill>
        <p:spPr>
          <a:xfrm>
            <a:off x="1057320" y="2743200"/>
            <a:ext cx="365040" cy="2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4" name=""/>
          <p:cNvGraphicFramePr/>
          <p:nvPr/>
        </p:nvGraphicFramePr>
        <p:xfrm>
          <a:off x="762120" y="380880"/>
          <a:ext cx="7086600" cy="6080400"/>
        </p:xfrm>
        <a:graphic>
          <a:graphicData uri="http://schemas.openxmlformats.org/drawingml/2006/table">
            <a:tbl>
              <a:tblPr/>
              <a:tblGrid>
                <a:gridCol w="4046400"/>
                <a:gridCol w="1541520"/>
                <a:gridCol w="1498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9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9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i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900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i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</a:tbl>
          </a:graphicData>
        </a:graphic>
      </p:graphicFrame>
      <p:pic>
        <p:nvPicPr>
          <p:cNvPr id="1695" name="Picture 5" descr=""/>
          <p:cNvPicPr/>
          <p:nvPr/>
        </p:nvPicPr>
        <p:blipFill>
          <a:blip r:embed="rId1"/>
          <a:stretch/>
        </p:blipFill>
        <p:spPr>
          <a:xfrm>
            <a:off x="6454800" y="3776760"/>
            <a:ext cx="365040" cy="26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599760" y="1711080"/>
            <a:ext cx="798516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e75b6"/>
                </a:solidFill>
                <a:latin typeface="Calibri"/>
              </a:rPr>
              <a:t>Najlepša hvala.</a:t>
            </a:r>
            <a:br>
              <a:rPr sz="2800"/>
            </a:br>
            <a:br>
              <a:rPr sz="2800"/>
            </a:br>
            <a:r>
              <a:rPr b="0" i="1" lang="pl-PL" sz="1400" spc="-1" strike="noStrike">
                <a:solidFill>
                  <a:srgbClr val="2e75b6"/>
                </a:solidFill>
                <a:latin typeface="Calibri"/>
              </a:rPr>
              <a:t>http://www.svrk.gov.si/</a:t>
            </a:r>
            <a:br>
              <a:rPr sz="1400"/>
            </a:br>
            <a:r>
              <a:rPr b="0" i="1" lang="pl-PL" sz="1400" spc="-1" strike="noStrike">
                <a:solidFill>
                  <a:srgbClr val="2e75b6"/>
                </a:solidFill>
                <a:latin typeface="Calibri"/>
              </a:rPr>
              <a:t>http://www.eu-skladi.si/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ja Kampuš</cp:lastModifiedBy>
  <dcterms:modified xsi:type="dcterms:W3CDTF">2017-05-30T09:29:26Z</dcterms:modified>
  <cp:revision>39</cp:revision>
  <dc:subject/>
  <dc:title>PowerPoint Presentation</dc:title>
</cp:coreProperties>
</file>